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6B0A0-7000-4986-ADBF-60FD36E02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4D0E8-590D-418F-A43E-C05167C6C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EB14B-4243-4052-898F-5B2D7F6A7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4ED6C-9110-4BE3-8135-B065B61F2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5AFFD-EBD2-486C-BD2E-FBFB3D592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B29A8-6064-4BD0-BF70-E224E9F79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76BCB-D36F-4AFF-9352-AAA8BE55A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30519-6698-47CA-8F4A-F037623F0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4D82A-E892-44CF-90F9-7EC5F37FB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37215-9E81-44B7-A345-C1807EAC0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A9A3F-837D-40ED-9ACA-79E4884B8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1A8C2-659E-45A1-87E3-D3E37C3E1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D8345-CD9B-4CC5-8704-336A822ED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15675-92B7-4AB3-BA8D-118E3F0D5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2CD4B-A3F2-4F1D-8BF5-D70E08EBC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A499A-5702-4D72-93AA-08C2B9F99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CAEE9-C887-4E1A-A5D4-A72FD7A6C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B4004-1C97-4E43-AFBA-35EC4A6D1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676B9-E147-457B-9F5A-5538A0D28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84AAC-E9A0-40AC-87E6-5F773D786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78B39-4269-4DB5-950C-EC4FA4BFC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C7F88-E102-4A3F-8CE1-5CAC85811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2CE18-880B-4531-AF39-4A3545B7B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0B171-B205-4B46-8D5A-89C38D07F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76048-81E8-41D4-8796-4D72A15278B3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>
              <a:gd name="textAreaLeft" fmla="*/ 0 w 7925040"/>
              <a:gd name="textAreaRight" fmla="*/ 7925400 w 79250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43F67-BF86-4AF7-B01C-E3A9F7601F8A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Роман Л.Н.Толстого «Война и мир» - роман-эпопея: проблематика, образы, жанр</a:t>
            </a:r>
            <a:br>
              <a:rPr sz="3800"/>
            </a:b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	</a:t>
            </a: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	</a:t>
            </a: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	</a:t>
            </a: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	</a:t>
            </a:r>
            <a:r>
              <a:rPr b="0" lang="ru-RU" sz="2100" spc="-1" strike="noStrike">
                <a:solidFill>
                  <a:srgbClr val="006633"/>
                </a:solidFill>
                <a:latin typeface="Garamond"/>
              </a:rPr>
              <a:t>Все страсти, все моменты </a:t>
            </a:r>
            <a:r>
              <a:rPr b="0" lang="ru-RU" sz="2100" spc="-1" strike="noStrike">
                <a:solidFill>
                  <a:srgbClr val="006633"/>
                </a:solidFill>
                <a:latin typeface="Garamond"/>
              </a:rPr>
              <a:t>	</a:t>
            </a:r>
            <a:r>
              <a:rPr b="0" lang="ru-RU" sz="2100" spc="-1" strike="noStrike">
                <a:solidFill>
                  <a:srgbClr val="006633"/>
                </a:solidFill>
                <a:latin typeface="Garamond"/>
              </a:rPr>
              <a:t>	</a:t>
            </a:r>
            <a:r>
              <a:rPr b="0" lang="ru-RU" sz="2100" spc="-1" strike="noStrike">
                <a:solidFill>
                  <a:srgbClr val="006633"/>
                </a:solidFill>
                <a:latin typeface="Garamond"/>
              </a:rPr>
              <a:t>	</a:t>
            </a:r>
            <a:r>
              <a:rPr b="0" lang="ru-RU" sz="2100" spc="-1" strike="noStrike">
                <a:solidFill>
                  <a:srgbClr val="006633"/>
                </a:solidFill>
                <a:latin typeface="Garamond"/>
              </a:rPr>
              <a:t>	</a:t>
            </a:r>
            <a:r>
              <a:rPr b="0" lang="ru-RU" sz="2100" spc="-1" strike="noStrike">
                <a:solidFill>
                  <a:srgbClr val="006633"/>
                </a:solidFill>
                <a:latin typeface="Garamond"/>
              </a:rPr>
              <a:t>человеческой жизни, от крика </a:t>
            </a:r>
            <a:r>
              <a:rPr b="0" lang="ru-RU" sz="2100" spc="-1" strike="noStrike">
                <a:solidFill>
                  <a:srgbClr val="006633"/>
                </a:solidFill>
                <a:latin typeface="Garamond"/>
              </a:rPr>
              <a:t>	</a:t>
            </a:r>
            <a:r>
              <a:rPr b="0" lang="ru-RU" sz="2100" spc="-1" strike="noStrike">
                <a:solidFill>
                  <a:srgbClr val="006633"/>
                </a:solidFill>
                <a:latin typeface="Garamond"/>
              </a:rPr>
              <a:t>	</a:t>
            </a:r>
            <a:r>
              <a:rPr b="0" lang="ru-RU" sz="2100" spc="-1" strike="noStrike">
                <a:solidFill>
                  <a:srgbClr val="006633"/>
                </a:solidFill>
                <a:latin typeface="Garamond"/>
              </a:rPr>
              <a:t>	</a:t>
            </a:r>
            <a:r>
              <a:rPr b="0" lang="ru-RU" sz="2100" spc="-1" strike="noStrike">
                <a:solidFill>
                  <a:srgbClr val="006633"/>
                </a:solidFill>
                <a:latin typeface="Garamond"/>
              </a:rPr>
              <a:t>новорожденного ребёнка до последней </a:t>
            </a:r>
            <a:r>
              <a:rPr b="0" lang="ru-RU" sz="2100" spc="-1" strike="noStrike">
                <a:solidFill>
                  <a:srgbClr val="006633"/>
                </a:solidFill>
                <a:latin typeface="Garamond"/>
              </a:rPr>
              <a:t>	</a:t>
            </a:r>
            <a:r>
              <a:rPr b="0" lang="ru-RU" sz="2100" spc="-1" strike="noStrike">
                <a:solidFill>
                  <a:srgbClr val="006633"/>
                </a:solidFill>
                <a:latin typeface="Garamond"/>
              </a:rPr>
              <a:t>вспышки чувства </a:t>
            </a:r>
            <a:br>
              <a:rPr sz="2100"/>
            </a:br>
            <a:r>
              <a:rPr b="0" lang="ru-RU" sz="2100" spc="-1" strike="noStrike">
                <a:solidFill>
                  <a:srgbClr val="006633"/>
                </a:solidFill>
                <a:latin typeface="Garamond"/>
              </a:rPr>
              <a:t>умирающего старика, </a:t>
            </a:r>
            <a:br>
              <a:rPr sz="2100"/>
            </a:br>
            <a:r>
              <a:rPr b="0" lang="ru-RU" sz="2100" spc="-1" strike="noStrike">
                <a:solidFill>
                  <a:srgbClr val="006633"/>
                </a:solidFill>
                <a:latin typeface="Garamond"/>
              </a:rPr>
              <a:t>все горести и радости, доступные </a:t>
            </a:r>
            <a:br>
              <a:rPr sz="2100"/>
            </a:br>
            <a:r>
              <a:rPr b="0" lang="ru-RU" sz="2100" spc="-1" strike="noStrike">
                <a:solidFill>
                  <a:srgbClr val="006633"/>
                </a:solidFill>
                <a:latin typeface="Garamond"/>
              </a:rPr>
              <a:t>человеку,- всё есть в этой картине!</a:t>
            </a:r>
            <a:br>
              <a:rPr sz="2100"/>
            </a:br>
            <a:br>
              <a:rPr sz="2100"/>
            </a:br>
            <a:r>
              <a:rPr b="0" lang="ru-RU" sz="2100" spc="-1" strike="noStrike">
                <a:solidFill>
                  <a:srgbClr val="006633"/>
                </a:solidFill>
                <a:latin typeface="Garamond"/>
              </a:rPr>
              <a:t>Критик Н. Страхов.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50920" y="333360"/>
          <a:ext cx="8640720" cy="6191280"/>
        </p:xfrm>
        <a:graphic>
          <a:graphicData uri="http://schemas.openxmlformats.org/drawingml/2006/table">
            <a:tbl>
              <a:tblPr/>
              <a:tblGrid>
                <a:gridCol w="8640720"/>
              </a:tblGrid>
              <a:tr h="6191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            </a:t>
            </a:r>
            <a:r>
              <a:rPr b="0" lang="ru-RU" sz="3600" spc="-1" strike="noStrike">
                <a:solidFill>
                  <a:srgbClr val="006633"/>
                </a:solidFill>
                <a:latin typeface="Garamond"/>
              </a:rPr>
              <a:t>Л.Н.ТОЛСТОЙ «Война и мир»</a:t>
            </a:r>
            <a:br>
              <a:rPr sz="3600"/>
            </a:br>
            <a:r>
              <a:rPr b="0" lang="ru-RU" sz="3600" spc="-1" strike="noStrike">
                <a:solidFill>
                  <a:srgbClr val="006633"/>
                </a:solidFill>
                <a:latin typeface="Garamond"/>
              </a:rPr>
              <a:t>            </a:t>
            </a:r>
            <a:r>
              <a:rPr b="1" i="1" lang="ru-RU" sz="3600" spc="-1" strike="noStrike" u="sng">
                <a:solidFill>
                  <a:srgbClr val="006633"/>
                </a:solidFill>
                <a:uFillTx/>
                <a:latin typeface="Garamond"/>
              </a:rPr>
              <a:t>КУТУЗОВ И НАПОЛЕОН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395280" y="1484280"/>
          <a:ext cx="8569440" cy="487440"/>
        </p:xfrm>
        <a:graphic>
          <a:graphicData uri="http://schemas.openxmlformats.org/drawingml/2006/table">
            <a:tbl>
              <a:tblPr/>
              <a:tblGrid>
                <a:gridCol w="4105440"/>
                <a:gridCol w="4464000"/>
              </a:tblGrid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</a:t>
                      </a: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утузов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полеон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979640" y="1989000"/>
          <a:ext cx="5640480" cy="304920"/>
        </p:xfrm>
        <a:graphic>
          <a:graphicData uri="http://schemas.openxmlformats.org/drawingml/2006/table">
            <a:tbl>
              <a:tblPr/>
              <a:tblGrid>
                <a:gridCol w="56404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нешность, детали портре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27" name=""/>
          <p:cNvGraphicFramePr/>
          <p:nvPr/>
        </p:nvGraphicFramePr>
        <p:xfrm>
          <a:off x="395280" y="2276640"/>
          <a:ext cx="8569440" cy="1554120"/>
        </p:xfrm>
        <a:graphic>
          <a:graphicData uri="http://schemas.openxmlformats.org/drawingml/2006/table">
            <a:tbl>
              <a:tblPr/>
              <a:tblGrid>
                <a:gridCol w="4105440"/>
                <a:gridCol w="4464000"/>
              </a:tblGrid>
              <a:tr h="1554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Elephant"/>
                        </a:rPr>
                        <a:t>«тяжело ступая», «по пухлому, изуродованному раной лицу», «лицо его становилось всё светлее и светлее от старческой кроткой улыбки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Franklin Gothic Demi"/>
                        </a:rPr>
                        <a:t>«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Elephant"/>
                        </a:rPr>
                        <a:t>безучастный, ограниченный и счастливый от несчастия других взгляд», «круглый живот»,»жирные ляжки коротких ног», «жёлтый, пухлый, тяжёлый, с мутными глазами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908000" y="3429000"/>
          <a:ext cx="5688360" cy="304920"/>
        </p:xfrm>
        <a:graphic>
          <a:graphicData uri="http://schemas.openxmlformats.org/drawingml/2006/table">
            <a:tbl>
              <a:tblPr/>
              <a:tblGrid>
                <a:gridCol w="568836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         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исси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29" name=""/>
          <p:cNvGraphicFramePr/>
          <p:nvPr/>
        </p:nvGraphicFramePr>
        <p:xfrm>
          <a:off x="539640" y="3716280"/>
          <a:ext cx="8425080" cy="822240"/>
        </p:xfrm>
        <a:graphic>
          <a:graphicData uri="http://schemas.openxmlformats.org/drawingml/2006/table">
            <a:tbl>
              <a:tblPr/>
              <a:tblGrid>
                <a:gridCol w="4032360"/>
                <a:gridCol w="4392720"/>
              </a:tblGrid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Elephant"/>
                        </a:rPr>
                        <a:t>«Он был убеждён, что ему предназначено спасение России» (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Elephant"/>
                        </a:rPr>
                        <a:t>III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Elephant"/>
                        </a:rPr>
                        <a:t>-3-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Elephant"/>
                        </a:rPr>
                        <a:t>«Париж был столицей мира, и французы предметом зависти всех наций» (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Elephant"/>
                        </a:rPr>
                        <a:t>III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Elephant"/>
                        </a:rPr>
                        <a:t>-2-38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2050920" y="4292640"/>
          <a:ext cx="5569200" cy="304920"/>
        </p:xfrm>
        <a:graphic>
          <a:graphicData uri="http://schemas.openxmlformats.org/drawingml/2006/table">
            <a:tbl>
              <a:tblPr/>
              <a:tblGrid>
                <a:gridCol w="556920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   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оль в истор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468360" y="4581360"/>
          <a:ext cx="8424720" cy="1603440"/>
        </p:xfrm>
        <a:graphic>
          <a:graphicData uri="http://schemas.openxmlformats.org/drawingml/2006/table">
            <a:tbl>
              <a:tblPr/>
              <a:tblGrid>
                <a:gridCol w="4032360"/>
                <a:gridCol w="4392360"/>
              </a:tblGrid>
              <a:tr h="160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Elephant"/>
                        </a:rPr>
                        <a:t>«Не играл никакой роли»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Elephant"/>
                        </a:rPr>
                        <a:t>«не делал никаких распоряжений, а только соглашался или не соглашался на то, что предлагали ему « (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Elephant"/>
                        </a:rPr>
                        <a:t>III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Elephant"/>
                        </a:rPr>
                        <a:t>-2-35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Elephant"/>
                        </a:rPr>
                        <a:t>Роль «благодетеля мира»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Elephant"/>
                        </a:rPr>
                        <a:t>«Наполеон делал свои распоряжения, которые или уже были исполнены прежде, чем он делал их, или же не могли быть и не были исполнены» (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Elephant"/>
                        </a:rPr>
                        <a:t>III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Elephant"/>
                        </a:rPr>
                        <a:t>-2-3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2" name=""/>
          <p:cNvGraphicFramePr/>
          <p:nvPr/>
        </p:nvGraphicFramePr>
        <p:xfrm>
          <a:off x="1523880" y="333360"/>
          <a:ext cx="6096240" cy="43164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ентральные сцены с участием этих герое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395280" y="765000"/>
          <a:ext cx="8424720" cy="6089760"/>
        </p:xfrm>
        <a:graphic>
          <a:graphicData uri="http://schemas.openxmlformats.org/drawingml/2006/table">
            <a:tbl>
              <a:tblPr/>
              <a:tblGrid>
                <a:gridCol w="4213080"/>
                <a:gridCol w="4211640"/>
              </a:tblGrid>
              <a:tr h="686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Elephant"/>
                        </a:rPr>
                        <a:t>Смотр войск в Брауна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Elephant"/>
                        </a:rPr>
                        <a:t> </a:t>
                      </a: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Elephant"/>
                        </a:rPr>
                        <a:t>(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Elephant"/>
                        </a:rPr>
                        <a:t>I</a:t>
                      </a: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Elephant"/>
                        </a:rPr>
                        <a:t> – 2 - 2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Elephant"/>
                        </a:rPr>
                        <a:t>Военный совет перед Аустерлицем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Elephant"/>
                        </a:rPr>
                        <a:t> </a:t>
                      </a: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Elephant"/>
                        </a:rPr>
                        <a:t>(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Elephant"/>
                        </a:rPr>
                        <a:t>I</a:t>
                      </a: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Elephant"/>
                        </a:rPr>
                        <a:t> – 3 - 12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Elephant"/>
                        </a:rPr>
                        <a:t>Аустерлицкое сраже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Elephant"/>
                        </a:rPr>
                        <a:t>(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Elephant"/>
                        </a:rPr>
                        <a:t>I</a:t>
                      </a: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Elephant"/>
                        </a:rPr>
                        <a:t> – 3 - 15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Elephant"/>
                        </a:rPr>
                        <a:t>Бородинское сраже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Elephant"/>
                        </a:rPr>
                        <a:t>(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Elephant"/>
                        </a:rPr>
                        <a:t>III</a:t>
                      </a: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Elephant"/>
                        </a:rPr>
                        <a:t> – 2 - 16,25,35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Elephant"/>
                        </a:rPr>
                        <a:t>Совет в Филях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Elephant"/>
                        </a:rPr>
                        <a:t>(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Elephant"/>
                        </a:rPr>
                        <a:t>III</a:t>
                      </a: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Elephant"/>
                        </a:rPr>
                        <a:t> – 3 - 3,4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Elephant"/>
                        </a:rPr>
                        <a:t>Главы о Кутузове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Elephant"/>
                        </a:rPr>
                        <a:t>(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Elephant"/>
                        </a:rPr>
                        <a:t>IV</a:t>
                      </a: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Elephant"/>
                        </a:rPr>
                        <a:t> – 4 -4,5,6,1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Elephant"/>
                        </a:rPr>
                        <a:t>Аустерлицкое сражение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Elephant"/>
                        </a:rPr>
                        <a:t>(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Elephant"/>
                        </a:rPr>
                        <a:t>I</a:t>
                      </a: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Elephant"/>
                        </a:rPr>
                        <a:t> – 3 - 19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Elephant"/>
                        </a:rPr>
                        <a:t>Тильзитский мир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Elephant"/>
                        </a:rPr>
                        <a:t>(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Elephant"/>
                        </a:rPr>
                        <a:t>II</a:t>
                      </a: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Elephant"/>
                        </a:rPr>
                        <a:t> – 2  - 2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Elephant"/>
                        </a:rPr>
                        <a:t>Переправа через Неман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Elephant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Elephant"/>
                        </a:rPr>
                        <a:t>(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Elephant"/>
                        </a:rPr>
                        <a:t>III</a:t>
                      </a: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Elephant"/>
                        </a:rPr>
                        <a:t>  - 1  -2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Elephant"/>
                        </a:rPr>
                        <a:t>Бородинское сражение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Elephant"/>
                        </a:rPr>
                        <a:t> </a:t>
                      </a: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Elephant"/>
                        </a:rPr>
                        <a:t>(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Elephant"/>
                        </a:rPr>
                        <a:t>III</a:t>
                      </a: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Elephant"/>
                        </a:rPr>
                        <a:t>2  - 26,29,33,38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Elephant"/>
                        </a:rPr>
                        <a:t>На Поклонной горе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Elephant"/>
                        </a:rPr>
                        <a:t>(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Elephant"/>
                        </a:rPr>
                        <a:t>III</a:t>
                      </a: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Elephant"/>
                        </a:rPr>
                        <a:t> – 3 - 19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Elephant"/>
                        </a:rPr>
                        <a:t>В захваченной Москве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Elephant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Elephant"/>
                        </a:rPr>
                        <a:t>(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Elephant"/>
                        </a:rPr>
                        <a:t>IV</a:t>
                      </a: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Elephant"/>
                        </a:rPr>
                        <a:t> – 2 – 8,9,10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Elephant"/>
                        </a:rPr>
                        <a:t>Бегство Наполеона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Elephant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Elephant"/>
                        </a:rPr>
                        <a:t>(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Elephant"/>
                        </a:rPr>
                        <a:t>IV</a:t>
                      </a: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Elephant"/>
                        </a:rPr>
                        <a:t> – 3 – 16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80"/>
          <p:cNvSpPr/>
          <p:nvPr/>
        </p:nvSpPr>
        <p:spPr>
          <a:xfrm>
            <a:off x="395280" y="189000"/>
            <a:ext cx="8497800" cy="59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33"/>
                </a:solidFill>
                <a:latin typeface="Arial"/>
              </a:rPr>
              <a:t>                                     </a:t>
            </a:r>
            <a:r>
              <a:rPr b="1" i="1" lang="ru-RU" sz="2400" spc="-1" strike="noStrike" u="sng">
                <a:solidFill>
                  <a:srgbClr val="006633"/>
                </a:solidFill>
                <a:uFillTx/>
                <a:latin typeface="Arial"/>
              </a:rPr>
              <a:t>ИСТОРИЯ СОЗДАНИЯ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33"/>
                </a:solidFill>
                <a:latin typeface="Arial"/>
              </a:rPr>
              <a:t>                                              </a:t>
            </a:r>
            <a:r>
              <a:rPr b="0" lang="ru-RU" sz="1800" spc="-1" strike="noStrike">
                <a:solidFill>
                  <a:srgbClr val="006633"/>
                </a:solidFill>
                <a:latin typeface="Arial"/>
              </a:rPr>
              <a:t>1863-186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33"/>
                </a:solidFill>
                <a:latin typeface="Arial"/>
              </a:rPr>
              <a:t>                  </a:t>
            </a:r>
            <a:r>
              <a:rPr b="0" lang="ru-RU" sz="1800" spc="-1" strike="noStrike">
                <a:solidFill>
                  <a:srgbClr val="006633"/>
                </a:solidFill>
                <a:latin typeface="Arial"/>
              </a:rPr>
              <a:t>1857                    </a:t>
            </a:r>
            <a:r>
              <a:rPr b="0" lang="ru-RU" sz="1600" spc="-1" strike="noStrike">
                <a:solidFill>
                  <a:srgbClr val="006633"/>
                </a:solidFill>
                <a:latin typeface="Arial"/>
              </a:rPr>
              <a:t>Встреча с Пущиным и  Волконски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33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6633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6633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6633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33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6633"/>
                </a:solidFill>
                <a:latin typeface="Arial"/>
              </a:rPr>
              <a:t>Роман «Война и мир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33"/>
                </a:solidFill>
                <a:latin typeface="Arial"/>
              </a:rPr>
              <a:t>                                                   </a:t>
            </a:r>
            <a:r>
              <a:rPr b="0" lang="ru-RU" sz="1800" spc="-1" strike="noStrike">
                <a:solidFill>
                  <a:srgbClr val="006633"/>
                </a:solidFill>
                <a:latin typeface="Arial"/>
              </a:rPr>
              <a:t>1825                    </a:t>
            </a:r>
            <a:r>
              <a:rPr b="0" lang="ru-RU" sz="1600" spc="-1" strike="noStrike">
                <a:solidFill>
                  <a:srgbClr val="006633"/>
                </a:solidFill>
                <a:latin typeface="Arial"/>
              </a:rPr>
              <a:t>Восстание на Сенатской площад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33"/>
                </a:solidFill>
                <a:latin typeface="Arial"/>
              </a:rPr>
              <a:t>                                                                                         </a:t>
            </a:r>
            <a:r>
              <a:rPr b="0" lang="ru-RU" sz="1600" spc="-1" strike="noStrike">
                <a:solidFill>
                  <a:srgbClr val="006633"/>
                </a:solidFill>
                <a:latin typeface="Arial"/>
              </a:rPr>
              <a:t>Повесть «Декабристы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33"/>
                </a:solidFill>
                <a:latin typeface="Arial"/>
              </a:rPr>
              <a:t>                                                         </a:t>
            </a:r>
            <a:r>
              <a:rPr b="0" lang="ru-RU" sz="1600" spc="-1" strike="noStrike">
                <a:solidFill>
                  <a:srgbClr val="006633"/>
                </a:solidFill>
                <a:latin typeface="Arial"/>
              </a:rPr>
              <a:t>1812                         Отечественная вой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33"/>
                </a:solidFill>
                <a:latin typeface="Arial"/>
              </a:rPr>
              <a:t>                                                        </a:t>
            </a:r>
            <a:r>
              <a:rPr b="0" lang="ru-RU" sz="1600" spc="-1" strike="noStrike">
                <a:solidFill>
                  <a:srgbClr val="006633"/>
                </a:solidFill>
                <a:latin typeface="Arial"/>
              </a:rPr>
              <a:t>1805                                Война с Наполеоном в союзе с Австри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81"/>
          <p:cNvSpPr/>
          <p:nvPr/>
        </p:nvSpPr>
        <p:spPr>
          <a:xfrm flipV="1">
            <a:off x="3995640" y="1557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82"/>
          <p:cNvSpPr/>
          <p:nvPr/>
        </p:nvSpPr>
        <p:spPr>
          <a:xfrm>
            <a:off x="4211640" y="227664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83"/>
          <p:cNvSpPr/>
          <p:nvPr/>
        </p:nvSpPr>
        <p:spPr>
          <a:xfrm>
            <a:off x="3995640" y="2421000"/>
            <a:ext cx="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84"/>
          <p:cNvSpPr/>
          <p:nvPr/>
        </p:nvSpPr>
        <p:spPr>
          <a:xfrm>
            <a:off x="4356000" y="357336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85"/>
          <p:cNvSpPr/>
          <p:nvPr/>
        </p:nvSpPr>
        <p:spPr>
          <a:xfrm>
            <a:off x="4067280" y="3716280"/>
            <a:ext cx="0" cy="64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87"/>
          <p:cNvSpPr/>
          <p:nvPr/>
        </p:nvSpPr>
        <p:spPr>
          <a:xfrm>
            <a:off x="4427640" y="4581360"/>
            <a:ext cx="86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88"/>
          <p:cNvSpPr/>
          <p:nvPr/>
        </p:nvSpPr>
        <p:spPr>
          <a:xfrm>
            <a:off x="4067280" y="4797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89"/>
          <p:cNvSpPr/>
          <p:nvPr/>
        </p:nvSpPr>
        <p:spPr>
          <a:xfrm>
            <a:off x="4427640" y="5516640"/>
            <a:ext cx="93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179280" y="189000"/>
          <a:ext cx="8785440" cy="6264360"/>
        </p:xfrm>
        <a:graphic>
          <a:graphicData uri="http://schemas.openxmlformats.org/drawingml/2006/table">
            <a:tbl>
              <a:tblPr/>
              <a:tblGrid>
                <a:gridCol w="8785440"/>
              </a:tblGrid>
              <a:tr h="626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4"/>
          <p:cNvSpPr/>
          <p:nvPr/>
        </p:nvSpPr>
        <p:spPr>
          <a:xfrm>
            <a:off x="250920" y="404640"/>
            <a:ext cx="8569080" cy="619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33"/>
                </a:solidFill>
                <a:latin typeface="Arial"/>
              </a:rPr>
              <a:t>                         </a:t>
            </a:r>
            <a:r>
              <a:rPr b="1" i="1" lang="ru-RU" sz="2000" spc="-1" strike="noStrike">
                <a:solidFill>
                  <a:srgbClr val="006633"/>
                </a:solidFill>
                <a:latin typeface="Arial"/>
              </a:rPr>
              <a:t>«Я старался писать историю народ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33"/>
                </a:solidFill>
                <a:latin typeface="Arial"/>
              </a:rPr>
              <a:t>1857 г. – после встречи с декабристами Л.Н.Толстой задумал роман об одном из ни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33"/>
                </a:solidFill>
                <a:latin typeface="Arial"/>
              </a:rPr>
              <a:t>1825 г. – «Невольно от настоящего я перешёл к 1825 году, эпохе заблуждений и несчастий моего героя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33"/>
                </a:solidFill>
                <a:latin typeface="Arial"/>
              </a:rPr>
              <a:t>1812 г. – «Чтобы понять моего героя, мне нужно перенестись к его молодости, которая совпала со славной для России эпохой 1812 г.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33"/>
                </a:solidFill>
                <a:latin typeface="Arial"/>
              </a:rPr>
              <a:t>1805 г. – «Мне совестно было писать о нашем торжестве, не описав неудач и нашего срама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6633"/>
                </a:solidFill>
                <a:uFillTx/>
                <a:latin typeface="Arial"/>
              </a:rPr>
              <a:t>Вывод</a:t>
            </a:r>
            <a:r>
              <a:rPr b="0" lang="ru-RU" sz="1800" spc="-1" strike="noStrike">
                <a:solidFill>
                  <a:srgbClr val="006633"/>
                </a:solidFill>
                <a:latin typeface="Arial"/>
              </a:rPr>
              <a:t>: накопился огромный материал об исторических событиях 1805 – 1856 г.г. и замысел романа изменился. В центре оказались события 1812г., и героем романа стал русский наро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179280" y="189000"/>
          <a:ext cx="8856720" cy="6335640"/>
        </p:xfrm>
        <a:graphic>
          <a:graphicData uri="http://schemas.openxmlformats.org/drawingml/2006/table">
            <a:tbl>
              <a:tblPr/>
              <a:tblGrid>
                <a:gridCol w="8856720"/>
              </a:tblGrid>
              <a:tr h="633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«Война и мир» (1805 – 1820)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lvl="4" marL="161388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том   180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1388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1388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том   1806 – 18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1388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1388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II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ом   18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1388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1388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V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том   1812 – 18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1388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пилог   18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324000" y="260280"/>
          <a:ext cx="8640720" cy="6337440"/>
        </p:xfrm>
        <a:graphic>
          <a:graphicData uri="http://schemas.openxmlformats.org/drawingml/2006/table">
            <a:tbl>
              <a:tblPr/>
              <a:tblGrid>
                <a:gridCol w="8640720"/>
              </a:tblGrid>
              <a:tr h="633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                                                                                                                     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57200" y="907920"/>
            <a:ext cx="4038480" cy="554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ru-RU" sz="1500" spc="-1" strike="noStrike" u="sng">
                <a:solidFill>
                  <a:srgbClr val="000000"/>
                </a:solidFill>
                <a:uFillTx/>
                <a:latin typeface="Times New Roman"/>
              </a:rPr>
              <a:t>Первый – второй том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Русско-австро-французска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война 1805 г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ойна между коалицией  европейских держав (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Великобритания, Россия, Австрия, Швеция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) и наполеоновской Францией. Союзники ставили своей целью изгнать французские войска с захваченных ими территорий и восстановить дореволюционные порядки во Франции. Главная роль в войне возлагалась на Австрию и Россию. Наполеон, получив известие о том, что австрийские войска 27 августа вступили в Баварию, искусным маневром своих главных сил окружил армию Макка и принудил её к капитуляции. Русские войска, прибывшие 29 сентября в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Браунау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, оказались в тяжёлом положении и были вынуждены начать отход вдоль правого берега Дуная. Наполеон попытался окружить русские войска в районе Санкт-Пельтена. Но Кутузов, разгадав замысел противника, переправился через Дунай раньше подхода французов и нанёс сокрушительный удар. 4 ноября отряд Багратиона в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Шенграбенском бою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отразил атаки 30-тысячного авангарда французских войск и обеспечил соединение главных сил с австрийскими войсками. 20 ноября в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Аустерлицком сражении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союзные войска были разбиты. Австрия вышла из войны и подписала с Францией сепаратный мир. Русские войска были отведены в Россию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643280" y="620640"/>
            <a:ext cx="404352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Третий – четвёртый том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Отечественная война 1812 г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свободительная война России против наполеоновской агрессии. Вторжение войск наполеона было вызвано обострением русско-французских экономических и политических противоречий, фактическим отказом России от Континентальной блокады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Основные события 1812 года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12 июня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– переход французской армии через Неман (силы сторон к началу Отечественной войны: французы - около 610 тыс. человек; русские - около 240 тыс. человек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4-6 августа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– Смоленское сражение, неудачная попытка наполеона разгромить основные силы русских войск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8 августа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– назначение главнокомандующим М.И.Кутузова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28 августа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– Бородинское сражение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1 сентября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– военный совет в Филях, решение Кутузова оставить Москву; вступление французских войск в Москву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2-6 сентября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– пожар Москвы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ентябрь-октябрь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– Кутузов проводит Тарутинский марш-маневр, вынуждает французов уйти из Москвы и отступать по Старой Смоленской дороге; развёртывается партизанская война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14-16 ноября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– сражение при Березине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Ноябрь-декабрь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– гибель французской арми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14 декабря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– изгнание остатков «великой армии» из Росси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1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6633"/>
                </a:solidFill>
                <a:latin typeface="Garamond"/>
              </a:rPr>
              <a:t>                      </a:t>
            </a:r>
            <a:r>
              <a:rPr b="0" lang="ru-RU" sz="2100" spc="-1" strike="noStrike">
                <a:solidFill>
                  <a:srgbClr val="000000"/>
                </a:solidFill>
                <a:latin typeface="Garamond"/>
              </a:rPr>
              <a:t>Л. Н. ТОЛСТОЙ «Война и мир»</a:t>
            </a:r>
            <a:br>
              <a:rPr sz="2100"/>
            </a:br>
            <a:r>
              <a:rPr b="0" lang="ru-RU" sz="2100" spc="-1" strike="noStrike">
                <a:solidFill>
                  <a:srgbClr val="000000"/>
                </a:solidFill>
                <a:latin typeface="Garamond"/>
              </a:rPr>
              <a:t>   </a:t>
            </a:r>
            <a:r>
              <a:rPr b="1" i="1" lang="ru-RU" sz="2100" spc="-1" strike="noStrike">
                <a:solidFill>
                  <a:srgbClr val="000000"/>
                </a:solidFill>
                <a:latin typeface="Garamond"/>
              </a:rPr>
              <a:t>Историческая основа романа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72000" y="1484280"/>
          <a:ext cx="4392720" cy="3745080"/>
        </p:xfrm>
        <a:graphic>
          <a:graphicData uri="http://schemas.openxmlformats.org/drawingml/2006/table">
            <a:tbl>
              <a:tblPr/>
              <a:tblGrid>
                <a:gridCol w="4392720"/>
              </a:tblGrid>
              <a:tr h="374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7" name=""/>
          <p:cNvGraphicFramePr/>
          <p:nvPr/>
        </p:nvGraphicFramePr>
        <p:xfrm>
          <a:off x="324000" y="1628640"/>
          <a:ext cx="4105080" cy="4248360"/>
        </p:xfrm>
        <a:graphic>
          <a:graphicData uri="http://schemas.openxmlformats.org/drawingml/2006/table">
            <a:tbl>
              <a:tblPr/>
              <a:tblGrid>
                <a:gridCol w="4105080"/>
              </a:tblGrid>
              <a:tr h="424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Жанр романа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100" spc="-1" strike="noStrike">
                <a:solidFill>
                  <a:srgbClr val="000000"/>
                </a:solidFill>
                <a:latin typeface="Arial"/>
              </a:rPr>
              <a:t>«Что такое «Война и мир»? Это не роман, ещё менее поэма, ещё менее историческая  хроника. «Война и мир» есть то, что хотел и мог выразить автор в той форме, в которой оно выразилось». (Л.Н.Толстой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100" spc="-1" strike="noStrike">
                <a:solidFill>
                  <a:srgbClr val="000000"/>
                </a:solidFill>
                <a:latin typeface="Arial"/>
              </a:rPr>
              <a:t>«..Это не роман вообще, не исторический роман, даже не историческая хроника, это хроника семейная…это быль, и быль семейная» (Н.Страхов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1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100" spc="-1" strike="noStrike">
                <a:solidFill>
                  <a:srgbClr val="000000"/>
                </a:solidFill>
                <a:latin typeface="Arial"/>
              </a:rPr>
              <a:t>«Оригинальное и многостороннее произведение, соединяющее в себе эпопею, исторический роман и очерк нравов» (И.С.Тургенев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250920" y="260280"/>
          <a:ext cx="8713800" cy="6408720"/>
        </p:xfrm>
        <a:graphic>
          <a:graphicData uri="http://schemas.openxmlformats.org/drawingml/2006/table">
            <a:tbl>
              <a:tblPr/>
              <a:tblGrid>
                <a:gridCol w="8713800"/>
              </a:tblGrid>
              <a:tr h="64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5"/>
          <p:cNvSpPr/>
          <p:nvPr/>
        </p:nvSpPr>
        <p:spPr>
          <a:xfrm>
            <a:off x="755640" y="404640"/>
            <a:ext cx="777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6"/>
          <p:cNvSpPr/>
          <p:nvPr/>
        </p:nvSpPr>
        <p:spPr>
          <a:xfrm>
            <a:off x="250920" y="307440"/>
            <a:ext cx="8642160" cy="57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Роман-эпопе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«Романные» признаки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развитие сюжета, в котором есть завязка, развитие действия, кульминация, развязка – для всего повествования и для каждой сюжетной линии в отдельности; взаимодействие среды с характером героя, развитие этого характе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Признаки эпопе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тема(эпоха больших исторических событий); идейное содержание – «моральное единение повествователя с народом в его героической деятельности, патриотизм… прославление жизни, оптимизм; сложность композиции; стремление автора к национально-историческому обобщению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которые литературоведы определяют «Войну и мир» как философско-исторический роман. Но надо помнить, что история и философия в романе – только составные части. Роман создавался не для воссоздания истории, а как книга о жизни всего народа, нации, создавалась художественная правда. Следовательно, это роман-эпопе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79280" y="260280"/>
          <a:ext cx="8785440" cy="6121440"/>
        </p:xfrm>
        <a:graphic>
          <a:graphicData uri="http://schemas.openxmlformats.org/drawingml/2006/table">
            <a:tbl>
              <a:tblPr/>
              <a:tblGrid>
                <a:gridCol w="8785440"/>
              </a:tblGrid>
              <a:tr h="612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Л.Н.ТОЛСТОЙ «Война и мир»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403848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 u="sng">
                <a:solidFill>
                  <a:srgbClr val="000000"/>
                </a:solidFill>
                <a:uFillTx/>
                <a:latin typeface="Arial"/>
              </a:rPr>
              <a:t>«Любимые» герои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Даны в динамике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Некрасивы внешне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Духовно богаты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Совершают ошибки (духовные поиски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Служба Отечеству, общему делу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Находятся в периоде «детство»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Любят детей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Живут не в Петербурге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Есть семья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Счастливы в финале повествования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Семьи Ростовых, Болконских, Безуховых;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Кутузов, Тимохин, Тушин, Давыдов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48320" y="1052280"/>
            <a:ext cx="403848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 u="sng">
                <a:solidFill>
                  <a:srgbClr val="000000"/>
                </a:solidFill>
                <a:uFillTx/>
                <a:latin typeface="Arial"/>
              </a:rPr>
              <a:t>«Нелюбимые» герои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Даны в статистике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Красивы внешне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Отсутствие духовности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Уверены в себе (не совершают ошибок) – нет духовной работы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Служба себе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Находятся в периоде «отрочества»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Не любят детей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Живут в Петербурге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Нет семьи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Отсутствуют в эпилоге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Семьи Курагиных, Карагиных, Друбецких,Бергеров; Шерер,Наполеон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250920" y="981000"/>
          <a:ext cx="4249800" cy="5327640"/>
        </p:xfrm>
        <a:graphic>
          <a:graphicData uri="http://schemas.openxmlformats.org/drawingml/2006/table">
            <a:tbl>
              <a:tblPr/>
              <a:tblGrid>
                <a:gridCol w="4249800"/>
              </a:tblGrid>
              <a:tr h="532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8" name=""/>
          <p:cNvGraphicFramePr/>
          <p:nvPr/>
        </p:nvGraphicFramePr>
        <p:xfrm>
          <a:off x="4572000" y="981000"/>
          <a:ext cx="4392720" cy="5327640"/>
        </p:xfrm>
        <a:graphic>
          <a:graphicData uri="http://schemas.openxmlformats.org/drawingml/2006/table">
            <a:tbl>
              <a:tblPr/>
              <a:tblGrid>
                <a:gridCol w="4392720"/>
              </a:tblGrid>
              <a:tr h="5327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11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1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1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11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1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1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1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18440" cy="156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Л.Н.ТОЛСТОЙ «ВОЙНА И МИР»</a:t>
            </a:r>
            <a:br>
              <a:rPr sz="3800"/>
            </a:br>
            <a:r>
              <a:rPr b="0" lang="ru-RU" sz="2400" spc="-1" strike="noStrike">
                <a:solidFill>
                  <a:srgbClr val="006633"/>
                </a:solidFill>
                <a:latin typeface="Franklin Gothic Demi"/>
              </a:rPr>
              <a:t>Пути исканий смысла жизни Пьером и князем Андреем</a:t>
            </a:r>
            <a:br>
              <a:rPr sz="24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ля того, чтобы постичь смысл жизни, необходимо пройти через множество разочарований, кризисов, потерь и обретений</a:t>
            </a:r>
            <a:r>
              <a:rPr b="0" lang="ru-RU" sz="2000" spc="-1" strike="noStrike">
                <a:solidFill>
                  <a:srgbClr val="006633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421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ЬЕР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179280" y="1916280"/>
          <a:ext cx="4280040" cy="4681440"/>
        </p:xfrm>
        <a:graphic>
          <a:graphicData uri="http://schemas.openxmlformats.org/drawingml/2006/table">
            <a:tbl>
              <a:tblPr/>
              <a:tblGrid>
                <a:gridCol w="216000"/>
                <a:gridCol w="4064040"/>
              </a:tblGrid>
              <a:tr h="55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</a:t>
                      </a: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ЬЕР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412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мерть отца, женитьба на Элен и дуэль с Долоховым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влечение масонством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ор с Андреем на пароме в Богучарово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астие в судьбе Наташи и встреча с кометой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езд на Бородинское поле и жизнь на батарее Раевского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треча с Андреем в ночь перед сражением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бывание в захваченной французами Москве, плен, знакомство с Платоном Каратаевым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Женитьба на Наташе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астие в деятельности тайных обществ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22" name=""/>
          <p:cNvGraphicFramePr/>
          <p:nvPr/>
        </p:nvGraphicFramePr>
        <p:xfrm>
          <a:off x="4643280" y="1916280"/>
          <a:ext cx="4265640" cy="4681440"/>
        </p:xfrm>
        <a:graphic>
          <a:graphicData uri="http://schemas.openxmlformats.org/drawingml/2006/table">
            <a:tbl>
              <a:tblPr/>
              <a:tblGrid>
                <a:gridCol w="216000"/>
                <a:gridCol w="4049640"/>
              </a:tblGrid>
              <a:tr h="61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нязь АНДРЕЙ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406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емейная жизнь с Лизой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ход на войну, мечта о славе Наполеона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нение под Аустерлицем и встреча с Наполеоном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ождение сына и смерть жены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единённая жизнь в деревне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ор с Пьером на пароме в Богучарово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лужба у Сперанского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юбовь к Наташе и разочарование в ней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ородино и встреча с Пьером в ночь перед сражением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нение, встреча с Анатолем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треча с Наташей и княжной Марьей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мерть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23" name=""/>
          <p:cNvGraphicFramePr/>
          <p:nvPr/>
        </p:nvGraphicFramePr>
        <p:xfrm>
          <a:off x="755640" y="1268280"/>
          <a:ext cx="7561440" cy="648000"/>
        </p:xfrm>
        <a:graphic>
          <a:graphicData uri="http://schemas.openxmlformats.org/drawingml/2006/table">
            <a:tbl>
              <a:tblPr/>
              <a:tblGrid>
                <a:gridCol w="7561440"/>
              </a:tblGrid>
              <a:tr h="64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ля того, чтобы постичь смысл жизни, необходимо пройти через множество разочарований, кризисов, потерь и обретен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5T16:40:40Z</dcterms:created>
  <dc:creator>ТАНЯ</dc:creator>
  <dc:description/>
  <dc:language>en-US</dc:language>
  <cp:lastModifiedBy>Сухарь</cp:lastModifiedBy>
  <dcterms:modified xsi:type="dcterms:W3CDTF">2013-01-03T02:16:41Z</dcterms:modified>
  <cp:revision>7</cp:revision>
  <dc:subject/>
  <dc:title>                      Л. Н. ТОЛСТОЙ «Война и мир»                    Историческая основа романа</dc:title>
</cp:coreProperties>
</file>